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EAA-8C44-4B4C-8D1D-1AC31EC9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E58-EEA1-40B7-804B-DECC3A0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509-F6DF-4242-85AD-63E394A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306-B0F6-4FCB-BFFE-71742E87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431A-45EE-4D55-AE49-473C0A54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A4B-B774-4BA6-99B6-5746DAF3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FFB-6D0F-4B78-B221-27513D00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06DD-F1AB-4EEB-9C1E-CEAC9D8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C927-C180-4ACC-9A3C-1200668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759-E737-498A-9998-4D4DE7A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E773-DD73-485F-9281-CBE1B14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A82-7965-4E99-A560-1648F89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8714-EDB8-42E6-B98D-2C25F341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CC37-A605-456D-B911-CA1DBAA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944D-C3FA-4FD7-A983-0BB2443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CF26-FCD1-4709-B482-28EFA2CE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653-5E9C-41E7-97FD-C4F419E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365-27E7-4513-9FC7-FA6AEAA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DD2-4C31-4AD5-9D12-2717B64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06E-BFD2-4D3B-B59B-0B23560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CF2-7B66-4C9D-9FF1-B8EC598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531-F04B-4EFB-A7BC-0D58B89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0D1-50E7-441C-9057-B9E78F1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CE7-BA4F-4115-A8D7-358DAEC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B379-8926-4ABE-8021-26B1F414CB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231-8A4E-415B-9BA7-03D9F46140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Pearl and Wagner: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Two Good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38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3* Week 1*Da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e brought the frisky puppies to the beac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farmer looked behind the shed door for the stakes and po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d she promise Bert that we would get the benche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 made lunches for everybod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begin to have dreams the minute I go to slee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teacher felt sorry that one person did not get to read a ver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9:43:49Z</dcterms:created>
  <dc:creator>llefever</dc:creator>
  <dc:description/>
  <dc:language>en-US</dc:language>
  <cp:lastModifiedBy>teacher</cp:lastModifiedBy>
  <dcterms:modified xsi:type="dcterms:W3CDTF">2010-11-01T00:39:05Z</dcterms:modified>
  <cp:revision>4</cp:revision>
  <dc:subject/>
  <dc:title>Pearl and Wagner: 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487096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Scott Foresman 2nd grade </vt:lpwstr>
  </property>
</Properties>
</file>